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7580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2640" y="4117680"/>
            <a:ext cx="7580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040" y="137124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2640" y="411768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040" y="411768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2440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5480" y="1371240"/>
            <a:ext cx="2440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320" y="1371240"/>
            <a:ext cx="2440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2640" y="4117680"/>
            <a:ext cx="2440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5480" y="4117680"/>
            <a:ext cx="2440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320" y="4117680"/>
            <a:ext cx="2440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2640" y="1371240"/>
            <a:ext cx="7580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7580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369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040" y="1371240"/>
            <a:ext cx="369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1200" y="364680"/>
            <a:ext cx="68562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371240"/>
            <a:ext cx="369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2640" y="411768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369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37124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040" y="411768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040" y="1371240"/>
            <a:ext cx="369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2640" y="4117680"/>
            <a:ext cx="75801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457200"/>
            <a:ext cx="438120" cy="47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455760"/>
            <a:ext cx="328320" cy="41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857160"/>
            <a:ext cx="422280" cy="47484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2960" y="857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7840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326880"/>
            <a:ext cx="31680" cy="10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1880" y="1164960"/>
            <a:ext cx="868212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82640" y="1371240"/>
            <a:ext cx="7580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harcoal"/>
              </a:rPr>
              <a:t>Click to edit the outline text format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harcoal"/>
              </a:rPr>
              <a:t>Second Outline Level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harcoal"/>
              </a:rPr>
              <a:t>Third Outline Level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lvl="3" marL="1600200" indent="-228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harcoal"/>
              </a:rPr>
              <a:t>Fourth Outline Level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lvl="4" marL="2057400" indent="-228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harcoal"/>
              </a:rPr>
              <a:t>Fifth Outline Level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harcoal"/>
              </a:rPr>
              <a:t>Sixth Outline Level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harcoal"/>
              </a:rPr>
              <a:t>Seventh Outline Level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crel.org/sdrs/areas/as0cont.htm" TargetMode="External"/><Relationship Id="rId2" Type="http://schemas.openxmlformats.org/officeDocument/2006/relationships/hyperlink" Target="http://www.evaluator.com/links.ht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Assessing Student Learning in Social Studies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ession 5</a:t>
            </a:r>
            <a:endParaRPr b="0" lang="en-US" sz="4000" spc="-1" strike="noStrike">
              <a:solidFill>
                <a:srgbClr val="3333cc"/>
              </a:solidFill>
              <a:latin typeface="Charcoal"/>
            </a:endParaRPr>
          </a:p>
        </p:txBody>
      </p:sp>
      <p:pic>
        <p:nvPicPr>
          <p:cNvPr id="47" name="Picture 4" descr="j0232133"/>
          <p:cNvPicPr/>
          <p:nvPr/>
        </p:nvPicPr>
        <p:blipFill>
          <a:blip r:embed="rId1"/>
          <a:stretch/>
        </p:blipFill>
        <p:spPr>
          <a:xfrm>
            <a:off x="6257880" y="3581280"/>
            <a:ext cx="28861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hat is the best assessment?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ongoing</a:t>
            </a:r>
            <a:endParaRPr b="0" lang="en-US" sz="88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ortfolio Assessmen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vides information about student</a:t>
            </a:r>
            <a:r>
              <a:rPr b="1" lang="ja-JP" sz="32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 work and achievements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volves students in their own learning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siders the total child..his/her attitudes, strengths, weaknesses..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vides for student-teacher interaction directly in the learning process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s ongoing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</p:txBody>
      </p:sp>
      <p:pic>
        <p:nvPicPr>
          <p:cNvPr id="79" name="Object 4" descr=""/>
          <p:cNvPicPr/>
          <p:nvPr/>
        </p:nvPicPr>
        <p:blipFill>
          <a:blip r:embed="rId1"/>
          <a:stretch/>
        </p:blipFill>
        <p:spPr>
          <a:xfrm>
            <a:off x="6781680" y="4792680"/>
            <a:ext cx="23623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mplementing Portfolio</a:t>
            </a:r>
            <a:r>
              <a:rPr b="1" lang="ja-JP" sz="4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iscuss with the students use of them as a means of assessment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pecify how you will use it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ecide types of requirements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tributions appropriate for the content area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9080" y="380520"/>
            <a:ext cx="7650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ubrics/Self-Assessmen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udents need to play a role in their learning process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7200" y="3124080"/>
            <a:ext cx="838188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evelop and utilize a ru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and out rubric to students with the  assig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udents evaluate themselves based on the ru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5720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ssessment and Grading are not Synonym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33520" y="2971800"/>
            <a:ext cx="7696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ssessment- collects information from a variety of 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rading – uses the data collected to make a final judg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rades and Grading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vide feedback for students and parents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mmunicates the educational progress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Used to promote students from one grade level to another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mmunicating to Parent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790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port cards designed to increase parent</a:t>
            </a:r>
            <a:r>
              <a:rPr b="1" lang="ja-JP" sz="36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 awareness of the educational progress of their child/children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ost effective way---conference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Web Sites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7580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ncrel.org/sdrs/areas/as0cont.ht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- resources and materials dealing with assessment</a:t>
            </a:r>
            <a:endParaRPr b="0" lang="en-US" sz="28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evaluator.com/links.ht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- gives a list of the best Internet resources in the areas of assessment and evaluation </a:t>
            </a:r>
            <a:endParaRPr b="0" lang="en-US" sz="28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ww.teachervision.fen.com/page/4521.html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discusses the advantages of rubrics</a:t>
            </a:r>
            <a:endParaRPr b="0" lang="en-US" sz="28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82640" y="1371240"/>
            <a:ext cx="7580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rcoal"/>
              </a:rPr>
              <a:t>http://school.discovery.com/schrockguide/assess.html#alternative</a:t>
            </a:r>
            <a:r>
              <a:rPr b="0" lang="en-US" sz="2800" spc="-1" strike="noStrike">
                <a:solidFill>
                  <a:srgbClr val="3333cc"/>
                </a:solidFill>
                <a:latin typeface="Charcoal"/>
              </a:rPr>
              <a:t> – assessment and rubric information</a:t>
            </a:r>
            <a:endParaRPr b="0" lang="en-US" sz="28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rcoal"/>
              </a:rPr>
              <a:t>http://www.uwstout.edu/soe/profdev/assess.shtml</a:t>
            </a:r>
            <a:r>
              <a:rPr b="0" lang="en-US" sz="2800" spc="-1" strike="noStrike">
                <a:solidFill>
                  <a:srgbClr val="3333cc"/>
                </a:solidFill>
                <a:latin typeface="Charcoal"/>
              </a:rPr>
              <a:t> - authentic assessment</a:t>
            </a:r>
            <a:endParaRPr b="0" lang="en-US" sz="28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82640" y="1371240"/>
            <a:ext cx="7580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ttp://edweb.sdsu.edu/triton/july/rubrics/Rubric_Template.htm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- rubric template</a:t>
            </a:r>
            <a:endParaRPr b="0" lang="en-US" sz="28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rcoal"/>
              </a:rPr>
              <a:t>http://www.nwrel.org/assessment/toolkit98.php</a:t>
            </a:r>
            <a:r>
              <a:rPr b="0" lang="en-US" sz="2800" spc="-1" strike="noStrike">
                <a:solidFill>
                  <a:srgbClr val="3333cc"/>
                </a:solidFill>
                <a:latin typeface="Charcoal"/>
              </a:rPr>
              <a:t> - assessment toolkit</a:t>
            </a:r>
            <a:endParaRPr b="0" lang="en-US" sz="28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arcoal"/>
              </a:rPr>
              <a:t>http://www.teachertube.com/</a:t>
            </a:r>
            <a:r>
              <a:rPr b="0" lang="en-US" sz="2800" spc="-1" strike="noStrike">
                <a:solidFill>
                  <a:srgbClr val="3333cc"/>
                </a:solidFill>
                <a:latin typeface="Charcoal"/>
              </a:rPr>
              <a:t>teacher tube videos –variety of assessments</a:t>
            </a:r>
            <a:endParaRPr b="0" lang="en-US" sz="28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Assessment--Purpos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ssists students in their learning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elps to identify student strengths and weaknesses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ssess the effectiveness of the instruction (strategy &amp; teaching)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elps improve the effectiveness of the curriculum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ovides data that assists in decision making about a student</a:t>
            </a:r>
            <a:r>
              <a:rPr b="0" lang="ja-JP" sz="36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 future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ata to communicate to parents about student learning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</p:txBody>
      </p:sp>
      <p:pic>
        <p:nvPicPr>
          <p:cNvPr id="51" name="Picture 5" descr="bd07205_"/>
          <p:cNvPicPr/>
          <p:nvPr/>
        </p:nvPicPr>
        <p:blipFill>
          <a:blip r:embed="rId1"/>
          <a:stretch/>
        </p:blipFill>
        <p:spPr>
          <a:xfrm>
            <a:off x="6705720" y="4876920"/>
            <a:ext cx="2209680" cy="1831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4987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ssessment and Evaluation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905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all the information teacher gathers about students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3733920"/>
            <a:ext cx="79250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the interpretations/judgements made on how well the student has achiev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ED00208_"/>
          <p:cNvPicPr/>
          <p:nvPr/>
        </p:nvPicPr>
        <p:blipFill>
          <a:blip r:embed="rId1"/>
          <a:stretch/>
        </p:blipFill>
        <p:spPr>
          <a:xfrm>
            <a:off x="6058080" y="4100400"/>
            <a:ext cx="3085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ormal and Informal Assessments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737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Formal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 and quizz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 assessm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formal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 reaction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er obser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4" descr="j0234083"/>
          <p:cNvPicPr/>
          <p:nvPr/>
        </p:nvPicPr>
        <p:blipFill>
          <a:blip r:embed="rId1"/>
          <a:stretch/>
        </p:blipFill>
        <p:spPr>
          <a:xfrm>
            <a:off x="6431040" y="5505480"/>
            <a:ext cx="2712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8"/>
          <p:cNvGraphicFramePr/>
          <p:nvPr/>
        </p:nvGraphicFramePr>
        <p:xfrm>
          <a:off x="7086600" y="2362320"/>
          <a:ext cx="173052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362320"/>
                    <a:ext cx="17305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Assessmen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133720" y="23623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 Stak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133720" y="3809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/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nextslide"/>
          </p:cNvPr>
          <p:cNvSpPr/>
          <p:nvPr/>
        </p:nvSpPr>
        <p:spPr>
          <a:xfrm>
            <a:off x="1981080" y="24382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rId3" action="ppaction://hlinksldjump"/>
          </p:cNvPr>
          <p:cNvSpPr/>
          <p:nvPr/>
        </p:nvSpPr>
        <p:spPr>
          <a:xfrm>
            <a:off x="2057400" y="3886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1200" y="36468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igh Stakes Assessmen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2640" y="1371240"/>
            <a:ext cx="752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mal - Standardized 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dministered yearly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pares performance w/other schools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ports summarize percentiles, norms, stanines, etc..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Test is the Major Tool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</p:txBody>
      </p:sp>
      <p:sp>
        <p:nvSpPr>
          <p:cNvPr id="69" name="AutoShape 4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85620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uthentic/Performance Assessmen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05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n ongoing process which has a direct connection to the instruction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athering of multiple sources of information about the student</a:t>
            </a: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Charcoal"/>
            </a:endParaRPr>
          </a:p>
        </p:txBody>
      </p:sp>
      <p:pic>
        <p:nvPicPr>
          <p:cNvPr id="72" name="Object 4" descr=""/>
          <p:cNvPicPr/>
          <p:nvPr/>
        </p:nvPicPr>
        <p:blipFill>
          <a:blip r:embed="rId1"/>
          <a:stretch/>
        </p:blipFill>
        <p:spPr>
          <a:xfrm>
            <a:off x="7443720" y="4724280"/>
            <a:ext cx="1700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68562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uthentic/Performance Assessmen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formal - developed by teachers /students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tinuously evolving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valuates understanding of course content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Qualitative judgements about student strengths/instructional needs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volves through instructional units; portfolios,discussions, notes, profiles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Teacher is the Major Tool</a:t>
            </a:r>
            <a:endParaRPr b="0" lang="en-US" sz="3200" spc="-1" strike="noStrike">
              <a:solidFill>
                <a:srgbClr val="3333cc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3:07:50Z</dcterms:created>
  <dc:creator>Rosemary Parmigiani</dc:creator>
  <dc:description/>
  <dc:language>en-US</dc:language>
  <cp:lastModifiedBy>Rosemary Parmigiani</cp:lastModifiedBy>
  <dcterms:modified xsi:type="dcterms:W3CDTF">2011-09-19T00:10:13Z</dcterms:modified>
  <cp:revision>14</cp:revision>
  <dc:subject/>
  <dc:title>Assessing Student Achievement</dc:title>
</cp:coreProperties>
</file>